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11280" y="6381720"/>
            <a:ext cx="540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9900"/>
                </a:solidFill>
                <a:latin typeface="Arial"/>
              </a:rPr>
              <a:t>          </a:t>
            </a:r>
            <a:r>
              <a:rPr b="0" i="1" lang="en-AU" sz="1000" spc="-1" strike="noStrike">
                <a:solidFill>
                  <a:srgbClr val="009900"/>
                </a:solidFill>
                <a:latin typeface="Arial"/>
              </a:rPr>
              <a:t>Switched-on Ideas: Wellbeing</a:t>
            </a:r>
            <a:r>
              <a:rPr b="0" lang="en-AU" sz="1000" spc="-1" strike="noStrike">
                <a:solidFill>
                  <a:srgbClr val="009900"/>
                </a:solidFill>
                <a:latin typeface="Arial"/>
              </a:rPr>
              <a:t>, Curriculum Corporation </a:t>
            </a:r>
            <a:r>
              <a:rPr b="0" lang="en-US" sz="1000" spc="-1" strike="noStrike">
                <a:solidFill>
                  <a:srgbClr val="009900"/>
                </a:solidFill>
                <a:latin typeface="Arial"/>
              </a:rPr>
              <a:t>© L Longarett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553080" y="638172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7E93-027E-4343-85A4-3C70868232D3}" type="slidenum">
              <a:rPr b="0" lang="en-US" sz="10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5640" y="2708280"/>
            <a:ext cx="7488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lnSpc>
                <a:spcPct val="80000"/>
              </a:lnSpc>
              <a:spcBef>
                <a:spcPts val="56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he following slides contain helpful and unhelpful though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400"/>
              </a:spcAft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Organise them into two groups: </a:t>
            </a:r>
            <a:r>
              <a:rPr b="0" i="1" lang="en-US" sz="1600" spc="-1" strike="noStrike">
                <a:solidFill>
                  <a:srgbClr val="800080"/>
                </a:solidFill>
                <a:latin typeface="Arial"/>
              </a:rPr>
              <a:t>helpful thoughts</a:t>
            </a: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800080"/>
                </a:solidFill>
                <a:latin typeface="Arial"/>
              </a:rPr>
              <a:t>unhelpful thoughts</a:t>
            </a: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. Use the Slide Sorter View to drag the slides into place. This appears in the bottom left-hand cor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400"/>
              </a:spcAft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400"/>
              </a:spcAft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Shade the ones that describe the way you think. Tip: To shade the text box, click once over the box then click on the arrow next to the </a:t>
            </a:r>
            <a:r>
              <a:rPr b="1" lang="en-US" sz="1600" spc="-1" strike="noStrike">
                <a:solidFill>
                  <a:srgbClr val="cc3399"/>
                </a:solidFill>
                <a:latin typeface="Arial"/>
              </a:rPr>
              <a:t>Fill Colour</a:t>
            </a: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 tool on the </a:t>
            </a:r>
            <a:r>
              <a:rPr b="1" lang="en-US" sz="1600" spc="-1" strike="noStrike">
                <a:solidFill>
                  <a:srgbClr val="cc3399"/>
                </a:solidFill>
                <a:latin typeface="Arial"/>
              </a:rPr>
              <a:t>Draw</a:t>
            </a: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 tools and select a colo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Consider where your thoughts lie. Can these be changed? If so, h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11280" y="836640"/>
            <a:ext cx="6259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What and how are </a:t>
            </a:r>
            <a:br>
              <a:rPr sz="4800"/>
            </a:b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you think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2286000" cy="23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923760" y="260280"/>
          <a:ext cx="7777440" cy="395280"/>
        </p:xfrm>
        <a:graphic>
          <a:graphicData uri="http://schemas.openxmlformats.org/drawingml/2006/table">
            <a:tbl>
              <a:tblPr/>
              <a:tblGrid>
                <a:gridCol w="1079640"/>
                <a:gridCol w="2809800"/>
                <a:gridCol w="1990800"/>
                <a:gridCol w="18972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LI 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Nam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la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D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" name=""/>
          <p:cNvGrpSpPr/>
          <p:nvPr/>
        </p:nvGrpSpPr>
        <p:grpSpPr>
          <a:xfrm>
            <a:off x="7093080" y="3716280"/>
            <a:ext cx="1584360" cy="412920"/>
            <a:chOff x="7093080" y="3716280"/>
            <a:chExt cx="1584360" cy="41292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093080" y="3741120"/>
              <a:ext cx="158436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998840" y="3716280"/>
              <a:ext cx="384840" cy="412920"/>
            </a:xfrm>
            <a:prstGeom prst="ellipse">
              <a:avLst/>
            </a:prstGeom>
            <a:noFill/>
            <a:ln w="76320">
              <a:solidFill>
                <a:srgbClr val="ed18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96360" y="4941720"/>
            <a:ext cx="5760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7708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99"/>
                </a:solidFill>
                <a:latin typeface="Arial"/>
                <a:ea typeface="宋体"/>
              </a:rPr>
              <a:t>Sometimes you have to do things you don’t like. You can’t change that.</a:t>
            </a:r>
            <a:r>
              <a:rPr b="0" lang="en-AU" sz="8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93080" cy="170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6600cc"/>
                </a:solidFill>
                <a:latin typeface="Arial"/>
                <a:ea typeface="宋体"/>
              </a:rPr>
              <a:t>It’s not fair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2480" y="259920"/>
            <a:ext cx="829152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6600"/>
                </a:solidFill>
                <a:latin typeface="Arial"/>
                <a:ea typeface="宋体"/>
              </a:rPr>
              <a:t>I can change things about myself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921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3399"/>
                </a:solidFill>
                <a:latin typeface="Arial"/>
                <a:ea typeface="宋体"/>
              </a:rPr>
              <a:t>I can’t change things about myself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7708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Arial"/>
                <a:ea typeface="宋体"/>
              </a:rPr>
              <a:t>I get over problems quickly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3399"/>
                </a:solidFill>
                <a:latin typeface="Arial"/>
                <a:ea typeface="宋体"/>
              </a:rPr>
              <a:t>I feel unhappy for a long time when things go wrong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9218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Arial"/>
                <a:ea typeface="宋体"/>
              </a:rPr>
              <a:t>I learn from my mistakes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55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Arial"/>
                <a:ea typeface="宋体"/>
              </a:rPr>
              <a:t>I have to get things right all the time. I get upset with myself if I don’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cc3399"/>
                </a:solidFill>
                <a:latin typeface="Arial"/>
                <a:ea typeface="宋体"/>
              </a:rPr>
              <a:t>I am good at different things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93080" cy="59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600cc"/>
                </a:solidFill>
                <a:latin typeface="Arial"/>
                <a:ea typeface="宋体"/>
              </a:rPr>
              <a:t>I don’t worry much.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800080"/>
                </a:solidFill>
                <a:latin typeface="Arial"/>
              </a:rPr>
              <a:t>Helpful thoughts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6600"/>
                </a:solidFill>
                <a:latin typeface="Arial"/>
                <a:ea typeface="宋体"/>
              </a:rPr>
              <a:t>I like to win.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345600"/>
            <a:ext cx="77058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3399"/>
                </a:solidFill>
                <a:latin typeface="Arial"/>
                <a:ea typeface="宋体"/>
              </a:rPr>
              <a:t>I don’t tell others how I feel or what I think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Arial"/>
                <a:ea typeface="宋体"/>
              </a:rPr>
              <a:t>I feel like I belong in this class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70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6600"/>
                </a:solidFill>
                <a:latin typeface="Arial"/>
                <a:ea typeface="宋体"/>
              </a:rPr>
              <a:t>I try hard at school.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3399"/>
                </a:solidFill>
                <a:latin typeface="Arial"/>
                <a:ea typeface="宋体"/>
              </a:rPr>
              <a:t>I am different to others in my class and that’s okay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7708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cc"/>
                </a:solidFill>
                <a:latin typeface="Arial"/>
                <a:ea typeface="宋体"/>
              </a:rPr>
              <a:t>I don’t like to stand out in my class. I try to fit in with others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7708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00"/>
                </a:solidFill>
                <a:latin typeface="Arial"/>
                <a:ea typeface="宋体"/>
              </a:rPr>
              <a:t>You are dumb and weak if you ask for help.</a:t>
            </a:r>
            <a:r>
              <a:rPr b="0" lang="en-AU" sz="9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921800" cy="55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99"/>
                </a:solidFill>
                <a:latin typeface="Arial"/>
                <a:ea typeface="宋体"/>
              </a:rPr>
              <a:t>I feel safe in this class because other kids like me and care about m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7708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cc"/>
                </a:solidFill>
                <a:latin typeface="Arial"/>
                <a:ea typeface="宋体"/>
              </a:rPr>
              <a:t>I spend a lot of time doing fun things with my friends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7848720" cy="50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00"/>
                </a:solidFill>
                <a:latin typeface="Arial"/>
                <a:ea typeface="宋体"/>
              </a:rPr>
              <a:t>I can talk to my teacher about a problem or my feelings.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560" y="692280"/>
            <a:ext cx="813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3399"/>
                </a:solidFill>
                <a:latin typeface="Arial"/>
              </a:rPr>
              <a:t>Unhelpful thought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3399"/>
                </a:solidFill>
                <a:latin typeface="Arial"/>
                <a:ea typeface="宋体"/>
              </a:rPr>
              <a:t>It’s better to avoid all problems. You never win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7708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  <a:ea typeface="宋体"/>
              </a:rPr>
              <a:t>It’s okay to have my say in class. People listen even if they don’t agree with m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56144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00"/>
                </a:solidFill>
                <a:latin typeface="Arial"/>
                <a:ea typeface="宋体"/>
              </a:rPr>
              <a:t>There’s no point in trying. I never get asked.</a:t>
            </a:r>
            <a:r>
              <a:rPr b="0" lang="en-US" sz="10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9218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3399"/>
                </a:solidFill>
                <a:latin typeface="Arial"/>
                <a:ea typeface="宋体"/>
              </a:rPr>
              <a:t>I make a difference in this classroom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971280" y="371628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3399"/>
                </a:solidFill>
                <a:latin typeface="Arial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00"/>
                </a:solidFill>
                <a:latin typeface="Arial"/>
              </a:rPr>
              <a:t>Select </a:t>
            </a:r>
            <a:r>
              <a:rPr b="1" lang="en-AU" sz="2000" spc="-1" strike="noStrike">
                <a:solidFill>
                  <a:srgbClr val="009900"/>
                </a:solidFill>
                <a:latin typeface="Arial"/>
              </a:rPr>
              <a:t>Print</a:t>
            </a:r>
            <a:r>
              <a:rPr b="0" lang="en-AU" sz="2000" spc="-1" strike="noStrike">
                <a:solidFill>
                  <a:srgbClr val="009900"/>
                </a:solidFill>
                <a:latin typeface="Arial"/>
              </a:rPr>
              <a:t> from the </a:t>
            </a:r>
            <a:r>
              <a:rPr b="1" lang="en-AU" sz="2000" spc="-1" strike="noStrike">
                <a:solidFill>
                  <a:srgbClr val="009900"/>
                </a:solidFill>
                <a:latin typeface="Arial"/>
              </a:rPr>
              <a:t>File</a:t>
            </a:r>
            <a:r>
              <a:rPr b="0" lang="en-AU" sz="2000" spc="-1" strike="noStrike">
                <a:solidFill>
                  <a:srgbClr val="009900"/>
                </a:solidFill>
                <a:latin typeface="Arial"/>
              </a:rPr>
              <a:t> me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(Mac: Pull down on the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Copies &amp; Pages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 menu and select Microsoft PowerPoi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Arial"/>
              </a:rPr>
              <a:t>Within the Print Dialogue Box, click on the </a:t>
            </a:r>
            <a:r>
              <a:rPr b="1" lang="en-AU" sz="2000" spc="-1" strike="noStrike">
                <a:solidFill>
                  <a:srgbClr val="ff6600"/>
                </a:solidFill>
                <a:latin typeface="Arial"/>
              </a:rPr>
              <a:t>Print what</a:t>
            </a:r>
            <a:r>
              <a:rPr b="0" lang="en-AU" sz="2000" spc="-1" strike="noStrike">
                <a:solidFill>
                  <a:srgbClr val="ff6600"/>
                </a:solidFill>
                <a:latin typeface="Arial"/>
              </a:rPr>
              <a:t> pull down menu and select </a:t>
            </a:r>
            <a:r>
              <a:rPr b="1" lang="en-AU" sz="2000" spc="-1" strike="noStrike">
                <a:solidFill>
                  <a:srgbClr val="ff6600"/>
                </a:solidFill>
                <a:latin typeface="Arial"/>
              </a:rPr>
              <a:t>Handouts (6 slides per page)</a:t>
            </a:r>
            <a:r>
              <a:rPr b="0" lang="en-AU" sz="2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00"/>
                </a:solidFill>
                <a:latin typeface="Arial"/>
              </a:rPr>
              <a:t>Click </a:t>
            </a:r>
            <a:r>
              <a:rPr b="1" lang="en-AU" sz="2000" spc="-1" strike="noStrike">
                <a:solidFill>
                  <a:srgbClr val="009900"/>
                </a:solidFill>
                <a:latin typeface="Arial"/>
              </a:rPr>
              <a:t>OK/Print</a:t>
            </a:r>
            <a:r>
              <a:rPr b="0" lang="en-AU" sz="2000" spc="-1" strike="noStrike">
                <a:solidFill>
                  <a:srgbClr val="009900"/>
                </a:solidFill>
                <a:latin typeface="Arial"/>
              </a:rPr>
              <a:t>.</a:t>
            </a:r>
            <a:r>
              <a:rPr b="1" lang="en-AU" sz="2000" spc="-1" strike="noStrike">
                <a:solidFill>
                  <a:srgbClr val="009900"/>
                </a:solidFill>
                <a:latin typeface="Arial"/>
              </a:rPr>
              <a:t>                                PREST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620640"/>
            <a:ext cx="4681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99"/>
                </a:solidFill>
                <a:latin typeface="Arial"/>
              </a:rPr>
              <a:t>Print this activity as a handout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Rather than print individual pages and waste paper, print this activity as a handout with six slides on each page. </a:t>
            </a:r>
            <a:br>
              <a:rPr sz="1800"/>
            </a:b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That means the whole task will fit onto a few pages instead of m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2100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cc"/>
                </a:solidFill>
                <a:latin typeface="Arial"/>
                <a:ea typeface="宋体"/>
              </a:rPr>
              <a:t>When things get hard, I keep trying and tell myself I can do it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77080" cy="59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Arial"/>
                <a:ea typeface="宋体"/>
              </a:rPr>
              <a:t>There’s nothing I can do about my feelings.</a:t>
            </a:r>
            <a:r>
              <a:rPr b="0" lang="en-AU" sz="9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59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Arial"/>
                <a:ea typeface="宋体"/>
              </a:rPr>
              <a:t>I worry about things that might happen.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92180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3399"/>
                </a:solidFill>
                <a:latin typeface="Arial"/>
                <a:ea typeface="宋体"/>
              </a:rPr>
              <a:t>It is always my fault when things go wrong.</a:t>
            </a:r>
            <a:r>
              <a:rPr b="0" lang="en-AU" sz="8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84872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cc"/>
                </a:solidFill>
                <a:latin typeface="Arial"/>
                <a:ea typeface="宋体"/>
              </a:rPr>
              <a:t>It always happens to me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9218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00"/>
                </a:solidFill>
                <a:latin typeface="Arial"/>
                <a:ea typeface="宋体"/>
              </a:rPr>
              <a:t>It’s okay not to get everything right.</a:t>
            </a:r>
            <a:r>
              <a:rPr b="0" lang="en-AU" sz="9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23:42:21Z</dcterms:created>
  <dc:creator/>
  <dc:description/>
  <dc:language>en-US</dc:language>
  <cp:lastModifiedBy>rcukier</cp:lastModifiedBy>
  <dcterms:modified xsi:type="dcterms:W3CDTF">2008-05-29T04:50:42Z</dcterms:modified>
  <cp:revision>54</cp:revision>
  <dc:subject/>
  <dc:title>Helpful Thinking</dc:title>
</cp:coreProperties>
</file>